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445-6204-441A-9354-12ED214C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52C-3E53-4C8B-BE91-7279D464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68E-0898-4CB3-ABBA-96C88733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59C-28CB-4CF9-BF03-9AC21D7D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A89F-7668-43CF-A9C6-34EDC844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1C1-8AA9-4917-AEEE-F6F0B189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F56-F685-43E9-9953-543DA301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C33-C255-4B20-B306-58DC5EAE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AD1B-D2B1-4965-9272-8138EF2C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B5A-54EF-425F-9455-D344BEAC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4B1-9092-4CB1-A40C-D7ADE37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0BA3-5D24-48F0-AC9C-79B423F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D7F8-383A-49F7-A4D6-71B180D43B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udience and purp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eader or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im in writing, e.g. to inform, to shock, to entertain, to express a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2-05T14:14:15Z</dcterms:modified>
  <cp:revision>69</cp:revision>
  <dc:subject/>
  <dc:title>La Belle Dame Sans Merci</dc:title>
</cp:coreProperties>
</file>